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A20-3C01-4ADD-891F-8CA25E40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A5D-A6FB-4842-8021-67DFEE54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793-D7E4-41A3-BA04-4C8E3F93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C4E-EF3C-490D-B729-68967DEF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029-EF96-4A0E-8C08-42F3D5A1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C02-1845-4918-99CC-CB10C4A8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204-0FCA-474C-B354-3680DDE6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26D-4D2B-4A41-A1B3-C79A15B5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3F5-EED5-4F8F-9A3F-E8EBF1E7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221-0A18-45C6-BA02-013628C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337-D5FB-4F81-9780-E42D1FB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2EA-0A43-48C0-B9E3-70F7F1D6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5C5C-176A-4DB1-A979-3815C6420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Volcano&amp;hl=en&amp;safe=active&amp;rls=com.microsoft:en-us:IE-SearchBox&amp;biw=1280&amp;bih=557&amp;tbm=isch&amp;tbnid=S9AbfutdU4npeM:&amp;imgrefurl=http://apod.nasa.gov/apod/ap100210.html&amp;docid=eis3p4qWiUdPXM&amp;imgurl=http://apod.nasa.gov/apod/image/1002/volcanolightning_rietze_big.jpg&amp;w=2808&amp;h=1872&amp;ei=DclPT4qtGsqDtgfH09DGDQ&amp;zoom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arth Scien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lin C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diment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gneo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morph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For Watch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’s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ing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iding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lcano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9:22:49Z</dcterms:created>
  <dc:creator>ccorde</dc:creator>
  <dc:description/>
  <dc:language>en-US</dc:language>
  <cp:lastModifiedBy>ccorde</cp:lastModifiedBy>
  <dcterms:modified xsi:type="dcterms:W3CDTF">2012-03-01T19:22:42Z</dcterms:modified>
  <cp:revision>3</cp:revision>
  <dc:subject/>
  <dc:title>Earth Science Project</dc:title>
</cp:coreProperties>
</file>